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A70-3039-43CF-B409-AF6A87CA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5FB-0F7F-48D7-89EE-B6C1B882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768-4C2B-44FC-BC10-FCC09BF8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065-75C8-4C29-B423-F1B0BFFA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DCB57-B7B7-4CB1-94AD-09860303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70E5-9D7E-4C43-AAEE-C1F929AE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1E2B8-A653-42B2-8D02-3AA4C4A4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922BC-30D8-4AC4-9DD4-A2BBE28C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4E32C-415A-43F3-B8D5-B67FF46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63EA5-20A7-4CEF-8655-AD25ABF6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BAC4C-78CE-4A50-AD0C-30102625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6F8-9FA5-4EF3-BF4D-41781117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37B3-79AC-4A93-B720-907BDA3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553CA-CACD-4E0C-89D2-C397F7C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EF0C4-D398-447F-B8B6-918F149B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11F9A-2DFE-40F9-986F-AD33E1F1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DE320-C0ED-4484-8637-597F46E8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9E4-1E84-4741-9AAF-3343A55B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14C-6C98-4DEB-ADD0-25A49E0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BCC-117E-4D32-A248-1506663B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570-E829-4DCD-B709-38E0F226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6C1-2C7A-43B9-A2BF-E4FE7F71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D21-FE93-4DF0-A04A-5D8678B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FF9-31ED-4E41-9E85-61C5303F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3CD9-5A2D-4AB6-A3AB-F64129F83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C4DC-1D1B-4796-825C-72811BA60E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752480" y="2819520"/>
            <a:ext cx="548640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ssion 6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ess, Health, and Goal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es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ntal or physical tension or press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lationshi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1981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- Consider alternati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- Others’ suppo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- Problem solv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- Esteem 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99840" y="137160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sider alternatives – Deal with feel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s’ support- Help each ot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blem solving- Pl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em building- Accept yoursel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23880" y="6094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NCIAL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ONSHIP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OR JOB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TING THING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/PROCRASTIN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SS FROM DIMINS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ty of Lif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ving as close to fulfilling one’s dreams and goals as possi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7:11Z</dcterms:modified>
  <cp:revision>18</cp:revision>
  <dc:subject/>
  <dc:title>Project TND  (Project Towards No Drug Abuse)</dc:title>
</cp:coreProperties>
</file>